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4EC8-67DD-4213-B951-1D7E5BC7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ne: 3 blind m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E4D-1B7B-4CB4-A1BC-7F4B38AF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617-0012-4EA4-AD34-2A54319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841-09C6-4BDD-82F7-F0943E01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C10-4232-4CC2-A773-1B70FBE9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BB2-D419-43A4-B24E-51B01746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04C-0EA3-4EA3-9533-550D6A77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6E3-BD86-4216-ADCA-499505C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40F-2D47-41BF-B554-263C3AA0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610-8EAA-43FD-9677-E15F306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968-DDEB-41EE-A9AC-41AF63A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C6B-1AA1-4B1A-9896-7D8E1C08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96E-7698-47E7-B008-CFFACF0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E37B-CFEF-47CA-AA81-0779FCED1F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04920" y="914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1371600" cy="111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143000" cy="889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2438640" cy="194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934320" y="5181480"/>
            <a:ext cx="1752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56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666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2514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10240" cy="296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3809880" cy="3041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04920" y="914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1371600" cy="111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143000" cy="88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438280" cy="19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81680" y="5029200"/>
            <a:ext cx="17528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0640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tune of three blind m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4:50:25Z</dcterms:created>
  <dc:creator>Mr Jefferson</dc:creator>
  <dc:description/>
  <dc:language>en-US</dc:language>
  <cp:lastModifiedBy>ITSU</cp:lastModifiedBy>
  <dcterms:modified xsi:type="dcterms:W3CDTF">2006-10-05T16:44:26Z</dcterms:modified>
  <cp:revision>3</cp:revision>
  <dc:subject/>
  <dc:title>PowerPoint Presentation</dc:title>
</cp:coreProperties>
</file>